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AD4-E5DC-448E-BBD8-732D4749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566-F8C7-4137-BD72-A6C4DEC5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D88-F7D8-4E1E-B4D1-2BF66360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971-82FF-4F94-8122-9E024DA9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A53-AECA-486F-8C10-2C504475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D3C-DBF4-49C2-B786-887BA668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F0B-5829-4191-8C99-5895BB02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717-15FD-4DE5-8914-8405F9C5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176-8DF9-442F-91C9-0CD69D81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2AC-7206-4A54-AEF5-E012731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EBB-C2F3-4AA0-943C-1C0413C6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E20-EDD2-4630-89B6-F6973E8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A109-C48A-4C7F-8707-6E1333E7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stitute.redlands.edu/sd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atial Decision Support Knowledge Portal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institute.redlands.edu/s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 Raskin, Jet Propulsion Labora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icong Li, U. of Redlands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IP Federation Summer 2009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33400" y="622440"/>
            <a:ext cx="73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S Knowledge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43000" y="127800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592200"/>
            <a:ext cx="8731080" cy="61894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2"/>
          <p:cNvGrpSpPr/>
          <p:nvPr/>
        </p:nvGrpSpPr>
        <p:grpSpPr>
          <a:xfrm>
            <a:off x="2590920" y="3335400"/>
            <a:ext cx="4231800" cy="380880"/>
            <a:chOff x="2590920" y="3335400"/>
            <a:chExt cx="4231800" cy="380880"/>
          </a:xfrm>
        </p:grpSpPr>
        <p:sp>
          <p:nvSpPr>
            <p:cNvPr id="62" name="Oval 6"/>
            <p:cNvSpPr/>
            <p:nvPr/>
          </p:nvSpPr>
          <p:spPr>
            <a:xfrm>
              <a:off x="2590920" y="3335400"/>
              <a:ext cx="17524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Box 9"/>
            <p:cNvSpPr/>
            <p:nvPr/>
          </p:nvSpPr>
          <p:spPr>
            <a:xfrm>
              <a:off x="4424400" y="3335400"/>
              <a:ext cx="23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atural language 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0"/>
          <p:cNvGrpSpPr/>
          <p:nvPr/>
        </p:nvGrpSpPr>
        <p:grpSpPr>
          <a:xfrm>
            <a:off x="2590920" y="973080"/>
            <a:ext cx="2035080" cy="380880"/>
            <a:chOff x="2590920" y="973080"/>
            <a:chExt cx="2035080" cy="380880"/>
          </a:xfrm>
        </p:grpSpPr>
        <p:sp>
          <p:nvSpPr>
            <p:cNvPr id="65" name="Oval 9"/>
            <p:cNvSpPr/>
            <p:nvPr/>
          </p:nvSpPr>
          <p:spPr>
            <a:xfrm>
              <a:off x="2590920" y="1049040"/>
              <a:ext cx="60948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3204720" y="97308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bbre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1"/>
          <p:cNvGrpSpPr/>
          <p:nvPr/>
        </p:nvGrpSpPr>
        <p:grpSpPr>
          <a:xfrm>
            <a:off x="2590920" y="2116080"/>
            <a:ext cx="5706000" cy="457200"/>
            <a:chOff x="2590920" y="2116080"/>
            <a:chExt cx="5706000" cy="457200"/>
          </a:xfrm>
        </p:grpSpPr>
        <p:sp>
          <p:nvSpPr>
            <p:cNvPr id="68" name="Oval 12"/>
            <p:cNvSpPr/>
            <p:nvPr/>
          </p:nvSpPr>
          <p:spPr>
            <a:xfrm>
              <a:off x="2590920" y="2116080"/>
              <a:ext cx="441972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13"/>
            <p:cNvSpPr/>
            <p:nvPr/>
          </p:nvSpPr>
          <p:spPr>
            <a:xfrm>
              <a:off x="7089120" y="211608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ynony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3"/>
          <p:cNvGrpSpPr/>
          <p:nvPr/>
        </p:nvGrpSpPr>
        <p:grpSpPr>
          <a:xfrm>
            <a:off x="2666880" y="5850000"/>
            <a:ext cx="2124720" cy="380880"/>
            <a:chOff x="2666880" y="5850000"/>
            <a:chExt cx="2124720" cy="380880"/>
          </a:xfrm>
        </p:grpSpPr>
        <p:sp>
          <p:nvSpPr>
            <p:cNvPr id="71" name="Oval 15"/>
            <p:cNvSpPr/>
            <p:nvPr/>
          </p:nvSpPr>
          <p:spPr>
            <a:xfrm>
              <a:off x="2666880" y="5850000"/>
              <a:ext cx="12952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4116960" y="58608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24"/>
          <p:cNvGrpSpPr/>
          <p:nvPr/>
        </p:nvGrpSpPr>
        <p:grpSpPr>
          <a:xfrm>
            <a:off x="2743200" y="5240160"/>
            <a:ext cx="3420360" cy="533520"/>
            <a:chOff x="2743200" y="5240160"/>
            <a:chExt cx="3420360" cy="533520"/>
          </a:xfrm>
        </p:grpSpPr>
        <p:sp>
          <p:nvSpPr>
            <p:cNvPr id="74" name="Oval 18"/>
            <p:cNvSpPr/>
            <p:nvPr/>
          </p:nvSpPr>
          <p:spPr>
            <a:xfrm>
              <a:off x="2743200" y="5240160"/>
              <a:ext cx="1828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17"/>
            <p:cNvSpPr/>
            <p:nvPr/>
          </p:nvSpPr>
          <p:spPr>
            <a:xfrm>
              <a:off x="4652280" y="53161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cision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3"/>
          <p:cNvGrpSpPr/>
          <p:nvPr/>
        </p:nvGrpSpPr>
        <p:grpSpPr>
          <a:xfrm>
            <a:off x="2666880" y="6165720"/>
            <a:ext cx="2264760" cy="370080"/>
            <a:chOff x="2666880" y="6165720"/>
            <a:chExt cx="2264760" cy="370080"/>
          </a:xfrm>
        </p:grpSpPr>
        <p:sp>
          <p:nvSpPr>
            <p:cNvPr id="77" name="Oval 24"/>
            <p:cNvSpPr/>
            <p:nvPr/>
          </p:nvSpPr>
          <p:spPr>
            <a:xfrm>
              <a:off x="2666880" y="6230880"/>
              <a:ext cx="129528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15"/>
            <p:cNvSpPr/>
            <p:nvPr/>
          </p:nvSpPr>
          <p:spPr>
            <a:xfrm>
              <a:off x="4116960" y="61657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1"/>
          <p:cNvGrpSpPr/>
          <p:nvPr/>
        </p:nvGrpSpPr>
        <p:grpSpPr>
          <a:xfrm>
            <a:off x="2590920" y="1049400"/>
            <a:ext cx="6095880" cy="914400"/>
            <a:chOff x="2590920" y="1049400"/>
            <a:chExt cx="6095880" cy="914400"/>
          </a:xfrm>
        </p:grpSpPr>
        <p:sp>
          <p:nvSpPr>
            <p:cNvPr id="80" name="Oval 27"/>
            <p:cNvSpPr/>
            <p:nvPr/>
          </p:nvSpPr>
          <p:spPr>
            <a:xfrm>
              <a:off x="2590920" y="1354320"/>
              <a:ext cx="60958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28"/>
            <p:cNvSpPr/>
            <p:nvPr/>
          </p:nvSpPr>
          <p:spPr>
            <a:xfrm>
              <a:off x="7394400" y="10494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4"/>
          <p:cNvGrpSpPr/>
          <p:nvPr/>
        </p:nvGrpSpPr>
        <p:grpSpPr>
          <a:xfrm>
            <a:off x="2743200" y="4859280"/>
            <a:ext cx="4934160" cy="380880"/>
            <a:chOff x="2743200" y="4859280"/>
            <a:chExt cx="4934160" cy="380880"/>
          </a:xfrm>
        </p:grpSpPr>
        <p:sp>
          <p:nvSpPr>
            <p:cNvPr id="83" name="Oval 30"/>
            <p:cNvSpPr/>
            <p:nvPr/>
          </p:nvSpPr>
          <p:spPr>
            <a:xfrm>
              <a:off x="2743200" y="4935240"/>
              <a:ext cx="137160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Box 17"/>
            <p:cNvSpPr/>
            <p:nvPr/>
          </p:nvSpPr>
          <p:spPr>
            <a:xfrm>
              <a:off x="4268520" y="4859280"/>
              <a:ext cx="34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8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cision maker interaction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8088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Additive Weight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oolsByProcessPhase.JPG"/>
          <p:cNvPicPr/>
          <p:nvPr/>
        </p:nvPicPr>
        <p:blipFill>
          <a:blip r:embed="rId1"/>
          <a:stretch/>
        </p:blipFill>
        <p:spPr>
          <a:xfrm>
            <a:off x="260280" y="0"/>
            <a:ext cx="857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of SDS Knowledge Po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wareness of resources available to assist with specific steps in decis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community sharing of decision support compon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DS Consortium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dlands Institute, University of Red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an Crow, PlaceMa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nda Faber, Fore Site Consulting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mid Ekbia, Indiana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Goodchild, University of California, Santa Barb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n Gordon, Interforest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otr Jankowski, San Diego State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ren Kemp, The Kohala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hard Klosterman, What if?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icong Li, University of Red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cek Malczewski, University of Western O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ip Murphy, InfoHarvest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rew Miller, Ecologica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ith Reynolds, USDA Fores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 Raskin, Jet Propulsion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Zwick, University of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lishments and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d the knowledge of S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controlled vocabulary for SDS among a user 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browsing and searching useful resources for SD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of data and mode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of modular components that can be implemented as a workflow via web servi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Decision Support (SDS) Knowledge Po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atic representation of body of knowledge of S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es semantic clarity of concepts commonly used in spatial decis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s and facilitates access to commonly used resources that aid in solving spatial decis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and maintained by the Spatial Decision Support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institute.redlands.edu/s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Spatial Decision Support (S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atial decision sup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computational or informational assistance for making better informed decisions about problems with a geographic or spatial component. This support assists with the development, evaluation and selection of proper policies, plans, scenarios, projects, interventions, or solution strate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multiple stakeholders or decision makers with conflicting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ly all decision problems involving Earth science data are spatial-re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ge is spatially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ty Needs for Spatial Decision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usable, modular tools/services that can be put together easily to form a spatial decision support system (SD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SDS systems and tools developed to date are not reus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approach is to develop from scratch for specific project or appl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omponents may be common across projects, decision problem types, and application dom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existing spatial decision support systems and tools in terms of their appropriateness and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and formalize the fundamental granules of the spatial decision process and related pheno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vocabulary and framework for semantic 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ies of Spatial Decision 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ility (uncertainty) of geophysical inpu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multi-dimensional and heterogeneous data and models describing decision si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formats, including: numerical, map, image, text, and other form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number of available alternatives or a need to generate decision alternatives "on the fly" according to the changing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participants with different and often conflicting intere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categories of knowledge involved, including expert knowledge and layman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ledge-Bas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 the knowledge in SDS to represent/formalize the meanings and relations of SD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easy access to the SD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 the robustness of the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litate interoperability with other existing conceptual models through standardization of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decision process, phases and steps, work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S related concept definitions and inter-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SDS resources using concepts in the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of concepts into a set of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onical Decision Process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ment, planning, legal/institutional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s and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, models, and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ftware and other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, participation, and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, literature, case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is everything rela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457200"/>
          <a:ext cx="8153280" cy="6264360"/>
        </p:xfrm>
        <a:graphic>
          <a:graphicData uri="http://schemas.openxmlformats.org/drawingml/2006/table">
            <a:tbl>
              <a:tblPr/>
              <a:tblGrid>
                <a:gridCol w="1600200"/>
                <a:gridCol w="6553080"/>
              </a:tblGrid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finition of spatial decision support, the related fields of study, the basic concepts related to the notion of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cision con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he context in which to frame a decision: decision problem types, application domains, institutional, legal, social, cultural, geographic contexts of a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patial decis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nowledge about spatial decision processes: major phases and sub steps during a structured spatial decision process; typical spatial decision process workflows for different application do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ods and techn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ods and techniques used during a spatial decis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chnology available for SDS, including equipment and software, especially the spatial decision support systems and tools.  Related information on information systems, general SDSS functiona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cision participants and r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laborative dimension of decision making process, decision process participant r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main data, models and 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a, processes, process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DS software systems and tools, related literature, case studies, related websites, data sources, data models, decision process workflow templates, organizations and people referred to elsewhere in the ont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Registration of a Method (algorith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ision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out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ision process phases/st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ision maker interaction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umptions and limi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6:25:21Z</dcterms:created>
  <dc:creator>Rob Raskin</dc:creator>
  <dc:description/>
  <cp:keywords/>
  <dc:language>en-US</dc:language>
  <cp:lastModifiedBy>Rob Raskin</cp:lastModifiedBy>
  <dcterms:modified xsi:type="dcterms:W3CDTF">2009-07-13T06:31:09Z</dcterms:modified>
  <cp:revision>10</cp:revision>
  <dc:subject/>
  <dc:title>Spatial Decision Support Consortium</dc:title>
</cp:coreProperties>
</file>